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image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pct" ContentType="image/x-pict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759-AC30-4BEC-9CD1-F2F16BE3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D4D-8459-402F-B9B4-21FA1D8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D9F-C99D-462B-B46D-AB94068A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A29-DB7E-4293-BFE1-59BE6C3B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CCE-D6AC-4C2C-B3B5-02324045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176-08DB-4311-A9F5-59EBF06E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544-FF36-470D-9BC8-CD37984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F5-6B0F-4BB0-8895-ECC38B7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E14-A05D-41EC-8A0B-61D8E3A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221-7E62-45BE-9AD5-7A7A75C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DFC-4E78-4BE1-9EFE-17EA75E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80C-AE02-4C49-A910-DCF9D49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0B2-7FF2-481A-82BA-D99F61F421C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his%20is%20Jeopar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 the autonomic nervous system contro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Involuntary motio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What are the 2 types of autonomic motion and what do they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Sympathetic- allows body to function under stress (fight or flight)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Parasympathetic- calms body back down after stres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concuss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brain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re does the concussion resul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It results with injures to the neck and the spin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pinal cord inju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damage in the spinal cord that can make you loss   your sens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o can get it??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 can happen to anyone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can someone get i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3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y can get it in any ag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ich disease can be prevented by taking folic acids when pregn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pina Bifid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does Multiple Sclerosis occu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Between the late 20s and early 40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As we age, what happe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urons die from normal wear, tear and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dden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llness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dentify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ease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ord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2952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3 surgical treatments for Parkinson’s Disea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Pallidotomy, Thalamotomy and Deep-Brain Stimul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kind of brain disorder is Epileps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eizure Disord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666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 whole Epileptic Seizur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Post-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828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time period after an Epileptic seizu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ensory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600200"/>
            <a:ext cx="7848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66cc"/>
                </a:solidFill>
                <a:latin typeface="Times New Roman"/>
              </a:rPr>
              <a:t>Nerves that send messages to the brain through the spinal cord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19320"/>
            <a:ext cx="78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Brain, Spinal cord, and nerve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81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motor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rves that carry impulses from the brain to the muscles and gland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’s the MR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the Magnetinc Resonace Angiography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590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1158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66cc"/>
                </a:solidFill>
                <a:latin typeface="Times New Roman"/>
              </a:rPr>
              <a:t>The Spinal Cord</a:t>
            </a:r>
            <a:endParaRPr b="0" lang="en-US" sz="5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743200"/>
            <a:ext cx="7467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5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br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821160"/>
            <a:ext cx="5100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66cc"/>
                </a:solidFill>
                <a:latin typeface="Times New Roman"/>
              </a:rPr>
              <a:t>What are these 3 parts of the brain called?</a:t>
            </a: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75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838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The STN, Thalamus, &amp; Quiet Zon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9246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What are the three component of the central nervous system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638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ff66cc"/>
                </a:solidFill>
                <a:latin typeface="Times New Roman"/>
              </a:rPr>
              <a:t>Motor nerves</a:t>
            </a:r>
            <a:endParaRPr b="0" lang="en-US" sz="9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80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66cc"/>
                </a:solidFill>
                <a:latin typeface="Times New Roman"/>
              </a:rPr>
              <a:t>Sensory Nerves</a:t>
            </a:r>
            <a:endParaRPr b="0" lang="en-US" sz="87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n’t close properly in 1/1000 babies, who have Spina Bifid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78487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ff66cc"/>
                </a:solidFill>
                <a:latin typeface="Times New Roman"/>
              </a:rPr>
              <a:t>The Neural Tube</a:t>
            </a:r>
            <a:endParaRPr b="0" lang="en-US" sz="7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o nerve impulses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133720"/>
            <a:ext cx="7848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recieve and transmit information to and from nerve centers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051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three main nervous syste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Central, Somatic, and Autonomic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Jillian  Heyman</cp:lastModifiedBy>
  <dcterms:modified xsi:type="dcterms:W3CDTF">2010-03-17T00:33:48Z</dcterms:modified>
  <cp:revision>74</cp:revision>
  <dc:subject/>
  <dc:title>No Slide Title</dc:title>
</cp:coreProperties>
</file>